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media/image27.png" ContentType="image/png"/>
  <Override PartName="/ppt/media/image2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6A3-C7EC-4B3D-9A0F-756C9531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69A-19D8-4101-8776-8903752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357-97E5-4B52-A753-92AD135E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57E-E0C9-4775-ABF0-6ADCB9C5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E42D6-9E55-434A-B122-0A5757E1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604B2-B4DA-4A28-8AAF-A206A22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4CC73-3EED-431D-8449-5884256A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C53F-2111-4E02-ADC4-F986A6A7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0188B-D34A-4646-81D9-34F753DD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361F4-408D-4DDE-8158-84AF000D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61A9-B7DF-4BDB-8191-B0577105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910-0135-43CF-9AF4-F68407A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9019C-0050-4C66-B327-1AE7901C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3C8C4-D9D9-4080-873F-D8632D15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C4CCE-5B02-4E30-B733-69B63BED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B91EA-7BCE-4CA4-98FC-A9EB7E07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B6AAD-6AC6-433D-B5C7-5DF0AEEE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18DB2-CFCF-433E-B564-F311E574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7808-0F96-4CE1-B59A-46B001A6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0489-DDFD-4FF4-B72F-41E614AA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2C3A-E394-4732-A3FE-27300E06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E327-2F7D-41CE-BDB6-AF1AAF94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723-FAE0-4681-9C97-3277C460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E4EB-49B0-4D82-8194-4FE196E5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ECA0-7887-49B7-B87F-724942D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BD0F9-13EC-45E3-BB02-128D090E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DFDC-E5F0-498C-B28F-062A65F1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9410-8086-43FD-B4A9-C931891A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0BDC-554D-4758-AFB2-B3DFA3AE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C4BD-B191-4B98-9135-4B33CAE9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C5D51-2B6C-4AE1-AA4E-AE0C94C1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EC2BE-DA74-4334-AB14-75FDBA2A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D8A3F-1AD5-44F2-A8C2-91C915F7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4A8-135C-43C1-A3EB-A84EB11E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145BDF-F297-4621-B8E7-C5E2BF73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3BC53-FE6A-4C88-B615-D907242E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11AC5-A0D5-4413-A667-C1F4BB73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87165-365C-4DEA-BD57-359B5E1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90BDB-9230-4D47-BB5F-9E0ABC3B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1A97F-B45B-4EC3-ADF3-4CF17957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76427-07DA-4ADF-82FB-C6D89761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72972-1C85-404B-A7B3-A6EC9F0D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C23EB-55C7-43EE-9A10-56B9CE16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41B50-2788-4C74-8FCD-23E8D627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F31-7759-4061-AB1D-429C7134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82D4A-7E11-42B5-9C1E-FAA35BDE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989EA-C741-48B6-AB76-D3980CC1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660F4-BA62-49D4-B682-8532D460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26127-5E70-4F99-9757-491EC842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9063C-3BC2-4FD9-B7F2-7630E4AF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0F132-8983-405B-96F0-69F6091E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68322-8543-409E-B1FB-E6C79346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21C01-F7FF-49CE-BD75-889DCEB6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7DBFB-2C68-4E65-8DB7-616C8763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D5B00-2947-4B10-969D-DBE4B0C5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A4F-F2B1-43C0-B703-9EDBD4DD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CCC31-04C8-4CB4-B43F-0B309278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493D2-D428-48D8-9015-6757DBD8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1E4D8-4D65-47FD-8ECC-635A2869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A219B-58B3-41FD-B4AB-18B37E22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42583-3529-463B-B595-9F8CE248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9CE8D-B0DF-421C-BBCB-253216B0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725FF-BB34-4CEA-8EA5-0DF56524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5B1FA-19D9-4BA7-B7A9-0C733A16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7FB9A-3031-4976-88E4-5765635B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1A0BD-4AED-4D7F-8C2D-2D6A833A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319-2E1C-4F83-9EBE-06D50994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32BC7-A073-4EF1-823C-0427F4E5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DD661D-30EE-4571-9E50-06F9A389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4FD00-BEC3-4EF1-80DA-DA31ECE6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858-1F9C-458A-8EFA-6D5EE77A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F74-1361-4CE6-98F0-D833B5BC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52D4F-8D24-4160-A6D4-61B3C06CA4BA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43918-A5E9-47F9-BD59-B271B805CE9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2B0B0-600D-4687-8D89-9E203DC97134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9DD64-9652-4440-9C97-AE13DDA5165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D4C8E-48F4-471F-A321-EBF963A09FF0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7C994-F427-4EB1-B4AF-014D0D03DB9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1EE44-FF96-4BC6-B641-469C526A28F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3760D-70EC-4566-922F-91333476CD67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A2649-7A4E-430C-AC1D-CC3B8E189D42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30F3D-7528-49E5-B7F8-F49D9AB148C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DCF37-DC38-47AC-B337-D230F5528472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578DD-76EC-45E8-8C75-D64FF9521A1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or: Frankie Padulo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ryan Hernandez, y Jace Hell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Mayans usaron el Puuc estilo en los edifici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Content Placeholder 6" descr="chichen-itza-ruins.jpg"/>
          <p:cNvPicPr/>
          <p:nvPr/>
        </p:nvPicPr>
        <p:blipFill>
          <a:blip r:embed="rId3"/>
          <a:srcRect l="0" t="-34449" r="0" b="-34449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s el centro de la ciuda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Content Placeholder 7" descr="chichenitza.jpg"/>
          <p:cNvPicPr/>
          <p:nvPr/>
        </p:nvPicPr>
        <p:blipFill>
          <a:blip r:embed="rId3"/>
          <a:srcRect l="0" t="-25078" r="0" b="-25078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s donde los Mayans compraban las cosas que necesitaba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Content Placeholder 8" descr="pilares_mercado_chichen_itza_m.jpg"/>
          <p:cNvPicPr/>
          <p:nvPr/>
        </p:nvPicPr>
        <p:blipFill>
          <a:blip r:embed="rId3"/>
          <a:srcRect l="0" t="-32325" r="0" b="-32325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 grupo de mil columnas es alrededor el Templo de Guerrer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Content Placeholder 6" descr="chichen-1000columns.jpg"/>
          <p:cNvPicPr/>
          <p:nvPr/>
        </p:nvPicPr>
        <p:blipFill>
          <a:blip r:embed="rId3"/>
          <a:srcRect l="0" t="-34467" r="0" b="-34467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Mayans estudiaron las estrellas en el observatori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Content Placeholder 6" descr="Chichen_Itza1.jpg"/>
          <p:cNvPicPr/>
          <p:nvPr/>
        </p:nvPicPr>
        <p:blipFill>
          <a:blip r:embed="rId3"/>
          <a:srcRect l="0" t="-94024" r="0" b="-94024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los jugaraban por sus vid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Content Placeholder 7" descr="ball-court-cc-weisserstier.jpg"/>
          <p:cNvPicPr/>
          <p:nvPr/>
        </p:nvPicPr>
        <p:blipFill>
          <a:blip r:embed="rId3"/>
          <a:srcRect l="-16838" t="0" r="-16838" b="0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ichen Itza era el mejor poderoso cuidad de Los May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Content Placeholder 8" descr="yucatan_peninsula_map.jpg"/>
          <p:cNvPicPr/>
          <p:nvPr/>
        </p:nvPicPr>
        <p:blipFill>
          <a:blip r:embed="rId3"/>
          <a:srcRect l="0" t="-19232" r="0" b="-19232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mayas hicieron un clase de soci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Content Placeholder 6" descr="Maya-society-Castes-as-in India.jpg"/>
          <p:cNvPicPr/>
          <p:nvPr/>
        </p:nvPicPr>
        <p:blipFill>
          <a:blip r:embed="rId3"/>
          <a:srcRect l="0" t="-24653" r="0" b="-24653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Mayas decidieron el siguiente emperador por una filosofía se llama nepotisimo o en inglés se llama nepotis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Content Placeholder 6" descr="mayans.gif"/>
          <p:cNvPicPr/>
          <p:nvPr/>
        </p:nvPicPr>
        <p:blipFill>
          <a:blip r:embed="rId3"/>
          <a:srcRect l="0" t="-34135" r="0" b="-34135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cuidades grandes de los Mayas tuvo un jefe suprem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Content Placeholder 6" descr="cozumel_chichen_itza_04.jpg"/>
          <p:cNvPicPr/>
          <p:nvPr/>
        </p:nvPicPr>
        <p:blipFill>
          <a:blip r:embed="rId3"/>
          <a:srcRect l="0" t="-30713" r="0" b="-30713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s ladrónes en un crimen se hace “become” un siervo “servant” a la victim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Content Placeholder 6" descr="columns.jpg"/>
          <p:cNvPicPr/>
          <p:nvPr/>
        </p:nvPicPr>
        <p:blipFill>
          <a:blip r:embed="rId3"/>
          <a:srcRect l="0" t="-31027" r="0" b="-31027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los construieron Chichen Itza en los diez y once sigl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Content Placeholder 6" descr="cancun03_chichen_itza_construction.jpg"/>
          <p:cNvPicPr/>
          <p:nvPr/>
        </p:nvPicPr>
        <p:blipFill>
          <a:blip r:embed="rId3"/>
          <a:srcRect l="0" t="-25081" r="0" b="-25081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y personas que piensan que extraterrestres construieron Chichen Itz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Content Placeholder 6" descr="Alien-Facts.png"/>
          <p:cNvPicPr/>
          <p:nvPr/>
        </p:nvPicPr>
        <p:blipFill>
          <a:blip r:embed="rId3"/>
          <a:srcRect l="-35203" t="0" r="-35203" b="0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2865240"/>
            <a:ext cx="40593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ichen Itza es un sitio anciano y esta abierta al publico 365 dias per an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Content Placeholder 8" descr="220px-Chichen_Itza_Temple_of_Kukulcan_Serpent.jpg"/>
          <p:cNvPicPr/>
          <p:nvPr/>
        </p:nvPicPr>
        <p:blipFill>
          <a:blip r:embed="rId3"/>
          <a:srcRect l="0" t="-25043" r="0" b="-25043"/>
          <a:stretch/>
        </p:blipFill>
        <p:spPr>
          <a:xfrm>
            <a:off x="4648320" y="152388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03:24:35Z</dcterms:created>
  <dc:creator>Kim Padulo</dc:creator>
  <dc:description/>
  <dc:language>en-US</dc:language>
  <cp:lastModifiedBy>Kim Padulo</cp:lastModifiedBy>
  <dcterms:modified xsi:type="dcterms:W3CDTF">2012-01-23T04:10:24Z</dcterms:modified>
  <cp:revision>4</cp:revision>
  <dc:subject/>
  <dc:title>Chichen Itza </dc:title>
</cp:coreProperties>
</file>